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4FE45-152F-4FB4-994D-BF615B039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D805A-CC55-4EA1-849B-6166205A4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B9752-C2A2-4942-AD43-065A863E8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1C1A6-87FA-4763-9E4F-7A4DB5264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EC7AA-F6A0-4683-93C2-954A66515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EF954-DAF2-41C7-9E28-330C5B137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4046E-EBBA-429E-A652-A07B6C4C0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955D4-3027-4A8A-A020-74A0CEFA0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91A42-745A-46FF-A0F5-E1C3DCCD6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FA5D7-E457-4399-8725-A690AC6C9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06BC6-F696-4ACA-B824-550B83BD8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2CA0A-9C94-4944-8A9E-82C201CEC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79E19-3192-44BB-AAA0-47A61CB85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7A358-16A1-4B38-887E-D0459E7E2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B42B4-8B94-4094-8F3D-4300783BD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A0BF7-D9FF-4CDE-8DC6-52F6A1407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FD455-CED0-4E1E-9B01-A416261B0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39A19B-7BA9-4CED-B2B8-598055A3D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4DD8B-4618-4653-93DE-DF78C19C0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F0FA9B-E00A-42D4-9979-40AC052F7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24ACE1-B43B-4A45-9F81-0F02ABEFD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E5A2B-CCC6-4F1B-9CA8-E7A3BB3BF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1E9F6-CFDE-4E9B-BE39-02138CD21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222C6-FCFD-4480-A335-5960669FC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F48CA-54F5-4289-98E6-22ADC6C09A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DC1E1-65A2-4C87-9D84-C9757FC33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C6023-060E-42B7-B389-7815E81168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B4996-2B32-44AF-816A-0DBCC82D0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ECBFB7-0972-458E-8856-7B63F59BB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450B0-EE54-44FA-83D4-90DCB3D91E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0238C-6F6F-465D-9286-EE1E0C446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62A5A-319F-401E-9A85-CB33E4ABB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D4CBA-ED6B-4FB9-A201-71B97D665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BB634-A77C-4F09-9DDC-B29A625B2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6010-7F1D-4B09-A8EF-8C01389B7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9E36-26C3-4A37-B551-220AC0F4C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3ABD-EECF-4063-A854-5D9D4371B1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1" name=""/>
          <p:cNvGrpSpPr/>
          <p:nvPr/>
        </p:nvGrpSpPr>
        <p:grpSpPr>
          <a:xfrm>
            <a:off x="0" y="0"/>
            <a:ext cx="9140760" cy="6851520"/>
            <a:chOff x="0" y="0"/>
            <a:chExt cx="9140760" cy="6851520"/>
          </a:xfrm>
        </p:grpSpPr>
        <p:sp>
          <p:nvSpPr>
            <p:cNvPr id="4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 name=""/>
            <p:cNvGrpSpPr/>
            <p:nvPr/>
          </p:nvGrpSpPr>
          <p:grpSpPr>
            <a:xfrm>
              <a:off x="304920" y="3625920"/>
              <a:ext cx="1990440" cy="1465200"/>
              <a:chOff x="304920" y="3625920"/>
              <a:chExt cx="1990440" cy="1465200"/>
            </a:xfrm>
          </p:grpSpPr>
          <p:sp>
            <p:nvSpPr>
              <p:cNvPr id="5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2"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Arial"/>
            </a:endParaRPr>
          </a:p>
        </p:txBody>
      </p:sp>
      <p:sp>
        <p:nvSpPr>
          <p:cNvPr id="8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84"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84FF-A575-4A4D-BE6D-827A6E8BB097}"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1" name=""/>
          <p:cNvGrpSpPr/>
          <p:nvPr/>
        </p:nvGrpSpPr>
        <p:grpSpPr>
          <a:xfrm>
            <a:off x="0" y="0"/>
            <a:ext cx="9140760" cy="6851520"/>
            <a:chOff x="0" y="0"/>
            <a:chExt cx="9140760" cy="6851520"/>
          </a:xfrm>
        </p:grpSpPr>
        <p:sp>
          <p:nvSpPr>
            <p:cNvPr id="12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4" name=""/>
            <p:cNvGrpSpPr/>
            <p:nvPr/>
          </p:nvGrpSpPr>
          <p:grpSpPr>
            <a:xfrm>
              <a:off x="304920" y="3625920"/>
              <a:ext cx="1990440" cy="1465200"/>
              <a:chOff x="304920" y="3625920"/>
              <a:chExt cx="1990440" cy="1465200"/>
            </a:xfrm>
          </p:grpSpPr>
          <p:sp>
            <p:nvSpPr>
              <p:cNvPr id="13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Arial"/>
            </a:endParaRPr>
          </a:p>
        </p:txBody>
      </p:sp>
      <p:sp>
        <p:nvSpPr>
          <p:cNvPr id="16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6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B177-AD7D-4F3F-97F9-0215AA9F0C36}"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201"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202"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20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20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06"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68360" y="83664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ofica</cp:lastModifiedBy>
  <dcterms:modified xsi:type="dcterms:W3CDTF">2012-06-18T11:10:13Z</dcterms:modified>
  <cp:revision>47</cp:revision>
  <dc:subject/>
  <dc:title>SALARIUL</dc:title>
</cp:coreProperties>
</file>